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9.jpeg" ContentType="image/jpeg"/>
  <Override PartName="/ppt/media/dk-ImWagenVorMir%5BNero%5D.wav" ContentType="audio/x-wav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42.gif" ContentType="image/gif"/>
  <Override PartName="/ppt/media/applause.wav" ContentType="audio/x-wav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3F5-D836-475B-8D3F-8E535D99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D83-1199-4518-B22F-FC162AA0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E87-C0F2-4BC5-9689-4E340D1F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6A5-7116-4D6A-B1E1-042D6D1B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5EDE-74AC-4E8B-AE1D-B3B95058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8925-4206-448A-800F-EBA3E938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C9ED-E66C-49F5-9016-55DE6255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A8E-221D-47DE-AE66-4B51834C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F276-6635-40BD-9F07-D198CFF0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7C46-075B-4E30-A62E-D1D9DABE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F510-B325-4291-AFC5-0F322CB0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FB8-CD89-487C-AFC9-E56EAA30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A2C8-61E4-406C-BDA8-33599FEE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D382-F105-4D8F-8D71-B9002726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EE1C-A1EA-4A19-BB77-9D117963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9B78-5407-410F-8929-81C1F602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C598-6285-4DB1-9673-A4C39A54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180-7896-47B6-9032-4460FE49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A0F-EC85-4642-9FE7-ACAA8F6D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368-03B6-452A-81D7-F1A196B3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B69-3BA3-414F-BC91-83E5CA0B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89A-6542-4E44-A4F6-9F5AC4D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B0B-C757-4FAD-8E93-4E1E081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FD6-C852-4DB9-9FEE-A16287C8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18C9-0F4E-4BC7-9179-1CE7147D90B6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7893-5186-4507-97B2-8EAC1C08542E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k-ImWagenVorMir%5BNero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836640"/>
            <a:ext cx="8461440" cy="69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400" spc="-1" strike="noStrike">
                <a:solidFill>
                  <a:srgbClr val="ff3300"/>
                </a:solidFill>
                <a:latin typeface="AgentExtMedDB"/>
              </a:rPr>
              <a:t>D‘RTL Déck-Käpp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400" spc="-1" strike="noStrike">
                <a:solidFill>
                  <a:srgbClr val="ff3300"/>
                </a:solidFill>
                <a:latin typeface="AgentExtMedDB"/>
              </a:rPr>
              <a:t>op Besuch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400" spc="-1" strike="noStrike">
                <a:solidFill>
                  <a:srgbClr val="ff3300"/>
                </a:solidFill>
                <a:latin typeface="AgentExtMedDB"/>
              </a:rPr>
              <a:t>beim Fraentreff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400" spc="-1" strike="noStrike">
                <a:solidFill>
                  <a:srgbClr val="ff3300"/>
                </a:solidFill>
                <a:latin typeface="AgentExtMedDB"/>
              </a:rPr>
              <a:t>zu Réiser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400" spc="-1" strike="noStrike">
                <a:solidFill>
                  <a:srgbClr val="ff3300"/>
                </a:solidFill>
                <a:latin typeface="AgentExtMedDB"/>
              </a:rPr>
              <a:t>            </a:t>
            </a:r>
            <a:r>
              <a:rPr b="0" lang="de-CH" sz="3600" spc="-1" strike="noStrike">
                <a:solidFill>
                  <a:srgbClr val="ff3300"/>
                </a:solidFill>
                <a:latin typeface="AgentExtMedDB"/>
              </a:rPr>
              <a:t>23.02.2006</a:t>
            </a:r>
            <a:r>
              <a:rPr b="0" lang="de-CH" sz="4000" spc="-1" strike="noStrike">
                <a:solidFill>
                  <a:srgbClr val="ff3300"/>
                </a:solidFill>
                <a:latin typeface="AgentExtMedDB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46708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206064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59280" y="177336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843280" y="1989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8764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59280" y="22050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91636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132000" y="69228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059280" y="90792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348000" y="765000"/>
            <a:ext cx="380988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19640" y="83664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348000" y="83664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666880" y="888840"/>
            <a:ext cx="381024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419640" y="90792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87280" y="76500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0" spc="-1" strike="noStrike">
                <a:solidFill>
                  <a:srgbClr val="ff3300"/>
                </a:solidFill>
                <a:latin typeface="AgentExtMedDB"/>
              </a:rPr>
              <a:t>Helau, Alaaf,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0" spc="-1" strike="noStrike">
                <a:solidFill>
                  <a:srgbClr val="ff3300"/>
                </a:solidFill>
                <a:latin typeface="AgentExtMedDB"/>
              </a:rPr>
              <a:t>  </a:t>
            </a:r>
            <a:r>
              <a:rPr b="0" lang="de-CH" sz="8000" spc="-1" strike="noStrike">
                <a:solidFill>
                  <a:srgbClr val="ff3300"/>
                </a:solidFill>
                <a:latin typeface="AgentExtMedDB"/>
              </a:rPr>
              <a:t>Good-Bye!!!!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038480" y="2757600"/>
            <a:ext cx="137160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635280" y="90792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67280" y="105264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90792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2:28:14Z</dcterms:created>
  <dc:creator>Dani</dc:creator>
  <dc:description/>
  <dc:language>en-US</dc:language>
  <cp:lastModifiedBy>Danielle</cp:lastModifiedBy>
  <dcterms:modified xsi:type="dcterms:W3CDTF">2009-07-24T22:27:51Z</dcterms:modified>
  <cp:revision>55</cp:revision>
  <dc:subject/>
  <dc:title>Slide 1</dc:title>
</cp:coreProperties>
</file>